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CDCD-F207-4D1D-93A2-EB99EA45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215B-C632-4301-BD21-7889E27A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EBC-5B51-4CC9-8728-20382CE2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E54-B7BF-45EE-9A91-99FA9BC1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C81B50-8CF6-4A9D-A63E-4912CA7282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51E2C-24C1-440D-9BE8-0DA4CDCD37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F08D3-2337-4776-9EE8-AAE7CFCC16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2D56C-22EB-4EC2-91E8-5495A00598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1CC48-A18A-40C7-889F-0C0426C4AE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09D1F-959F-4435-B6C5-9A4BBF39C1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2DCFC-847E-4B1E-B616-00ECA68FA0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408B-B421-4285-8F43-1C5CD2AA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1C32F-9B0E-49CA-93E1-293AF40091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DF634-C82C-426C-9BF5-839E19862D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808A0-6258-4921-9D20-61E37D0F938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E8029-3A50-47E6-92CD-DF62326331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511818-D04E-4047-94B9-16EC22CE24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C29FDA-5F25-417E-99D7-28B58E68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8C1F4-B4AA-42F9-A68B-3DFC683E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B25D3E-C8DF-48CA-B5BA-D8779FA8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96DA3-25A5-406F-ABE5-B3E82616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CE33AC-15B6-41B4-85F7-0FB9F90C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359-6370-4F58-A4F5-5864F277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A905EA-218B-4835-A401-09E5545B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D5ADE-5CD0-42ED-A41F-3AFDF270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CB10F-692F-47DC-A06B-5C2BAB53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22CC6F-FB54-4A99-80FC-1392B92D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89F2E2-7DEA-44A1-830B-D2F58207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9A160-C117-40A8-A404-080E6EFE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643F0-FAD8-4DCE-BE61-943D6828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2CC-0DC3-42B5-9938-32E77513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3015-A9C8-4C15-B55A-5A634C24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7437-5EAB-4463-86A5-6586AAB7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EF2C-6F42-40C9-99EB-D5ABC979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160-2D9E-48D5-AA1B-E6E53087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C82-F61C-4AFB-9FA0-C0117F3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矩形 6" descr=""/>
          <p:cNvPicPr/>
          <p:nvPr/>
        </p:nvPicPr>
        <p:blipFill>
          <a:blip r:embed="rId2"/>
          <a:stretch/>
        </p:blipFill>
        <p:spPr>
          <a:xfrm>
            <a:off x="-4865760" y="2905200"/>
            <a:ext cx="5411880" cy="1120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10" descr=""/>
          <p:cNvPicPr/>
          <p:nvPr/>
        </p:nvPicPr>
        <p:blipFill>
          <a:blip r:embed="rId3"/>
          <a:stretch/>
        </p:blipFill>
        <p:spPr>
          <a:xfrm>
            <a:off x="81000" y="-647640"/>
            <a:ext cx="5521320" cy="7494480"/>
          </a:xfrm>
          <a:prstGeom prst="rect">
            <a:avLst/>
          </a:prstGeom>
          <a:ln w="0">
            <a:noFill/>
          </a:ln>
        </p:spPr>
      </p:pic>
      <p:pic>
        <p:nvPicPr>
          <p:cNvPr id="2" name="图片 9" descr=""/>
          <p:cNvPicPr/>
          <p:nvPr/>
        </p:nvPicPr>
        <p:blipFill>
          <a:blip r:embed="rId4"/>
          <a:stretch/>
        </p:blipFill>
        <p:spPr>
          <a:xfrm>
            <a:off x="8712360" y="68400"/>
            <a:ext cx="3406680" cy="132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771F-FE4A-4AA8-8A4B-7A3848FFC07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72B3-7CD4-4694-94E9-A0DD7255578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5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86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9156600" y="5191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200" spc="-1" strike="noStrike">
                <a:solidFill>
                  <a:srgbClr val="843c0c"/>
                </a:solidFill>
                <a:latin typeface="Arial Black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6FFE-067E-4D45-A103-33564EBDA356}" type="slidenum">
              <a:rPr b="0" lang="zh-CN" sz="3200" spc="-1" strike="noStrike">
                <a:solidFill>
                  <a:srgbClr val="843c0c"/>
                </a:solidFill>
                <a:latin typeface="Arial Black"/>
                <a:ea typeface="黑体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0" y="482760"/>
            <a:ext cx="9333000" cy="1058760"/>
          </a:xfrm>
          <a:prstGeom prst="rect">
            <a:avLst/>
          </a:prstGeom>
          <a:gradFill rotWithShape="0">
            <a:gsLst>
              <a:gs pos="0">
                <a:srgbClr val="ed7d31"/>
              </a:gs>
              <a:gs pos="100000">
                <a:srgbClr val="ccc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7" descr=""/>
          <p:cNvPicPr/>
          <p:nvPr/>
        </p:nvPicPr>
        <p:blipFill>
          <a:blip r:embed="rId2"/>
          <a:stretch/>
        </p:blipFill>
        <p:spPr>
          <a:xfrm>
            <a:off x="-66600" y="-249120"/>
            <a:ext cx="1396800" cy="186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2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矩形 6" descr=""/>
          <p:cNvPicPr/>
          <p:nvPr/>
        </p:nvPicPr>
        <p:blipFill>
          <a:blip r:embed="rId2"/>
          <a:stretch/>
        </p:blipFill>
        <p:spPr>
          <a:xfrm>
            <a:off x="-4865760" y="2905200"/>
            <a:ext cx="5411880" cy="112068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0" descr=""/>
          <p:cNvPicPr/>
          <p:nvPr/>
        </p:nvPicPr>
        <p:blipFill>
          <a:blip r:embed="rId3"/>
          <a:stretch/>
        </p:blipFill>
        <p:spPr>
          <a:xfrm>
            <a:off x="81000" y="-647640"/>
            <a:ext cx="5521320" cy="74944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" descr=""/>
          <p:cNvPicPr/>
          <p:nvPr/>
        </p:nvPicPr>
        <p:blipFill>
          <a:blip r:embed="rId4"/>
          <a:stretch/>
        </p:blipFill>
        <p:spPr>
          <a:xfrm>
            <a:off x="8712360" y="68400"/>
            <a:ext cx="3406680" cy="13237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"/>
          <p:cNvPicPr/>
          <p:nvPr/>
        </p:nvPicPr>
        <p:blipFill>
          <a:blip r:embed="rId5"/>
          <a:stretch/>
        </p:blipFill>
        <p:spPr>
          <a:xfrm>
            <a:off x="8712360" y="68400"/>
            <a:ext cx="3406680" cy="132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11741-BAFB-4047-9737-E4C7FA9E8D5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28F8-8297-43C6-B337-FD452CFCC82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81E8-0B90-471E-A840-2BA57A178BD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8143920" y="5603760"/>
            <a:ext cx="38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微软雅黑"/>
                <a:ea typeface="微软雅黑"/>
              </a:rPr>
              <a:t>四川大学</a:t>
            </a:r>
            <a:r>
              <a:rPr b="1" lang="en-US" sz="2400" spc="-1" strike="noStrike">
                <a:solidFill>
                  <a:srgbClr val="ed7d31"/>
                </a:solidFill>
                <a:latin typeface="微软雅黑"/>
                <a:ea typeface="微软雅黑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慧之川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4" descr="1.PNG"/>
          <p:cNvPicPr/>
          <p:nvPr/>
        </p:nvPicPr>
        <p:blipFill>
          <a:blip r:embed="rId1"/>
          <a:stretch/>
        </p:blipFill>
        <p:spPr>
          <a:xfrm>
            <a:off x="208080" y="304920"/>
            <a:ext cx="4797360" cy="6253200"/>
          </a:xfrm>
          <a:prstGeom prst="rect">
            <a:avLst/>
          </a:prstGeom>
          <a:ln w="0">
            <a:noFill/>
          </a:ln>
        </p:spPr>
      </p:pic>
      <p:pic>
        <p:nvPicPr>
          <p:cNvPr id="132" name="标题 1" descr=""/>
          <p:cNvPicPr/>
          <p:nvPr/>
        </p:nvPicPr>
        <p:blipFill>
          <a:blip r:embed="rId2"/>
          <a:stretch/>
        </p:blipFill>
        <p:spPr>
          <a:xfrm>
            <a:off x="3654360" y="1482840"/>
            <a:ext cx="8572680" cy="356544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" descr=""/>
          <p:cNvPicPr/>
          <p:nvPr/>
        </p:nvPicPr>
        <p:blipFill>
          <a:blip r:embed="rId3"/>
          <a:stretch/>
        </p:blipFill>
        <p:spPr>
          <a:xfrm>
            <a:off x="8508960" y="203040"/>
            <a:ext cx="3405240" cy="13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2840" y="738360"/>
            <a:ext cx="480204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我方分析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文本框 2"/>
          <p:cNvSpPr/>
          <p:nvPr/>
        </p:nvSpPr>
        <p:spPr>
          <a:xfrm>
            <a:off x="1727280" y="2190600"/>
            <a:ext cx="96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组合 5" descr=""/>
          <p:cNvPicPr/>
          <p:nvPr/>
        </p:nvPicPr>
        <p:blipFill>
          <a:blip r:embed="rId1"/>
          <a:stretch/>
        </p:blipFill>
        <p:spPr>
          <a:xfrm>
            <a:off x="220680" y="1717560"/>
            <a:ext cx="4086360" cy="3122640"/>
          </a:xfrm>
          <a:prstGeom prst="rect">
            <a:avLst/>
          </a:prstGeom>
          <a:ln w="0">
            <a:noFill/>
          </a:ln>
        </p:spPr>
      </p:pic>
      <p:grpSp>
        <p:nvGrpSpPr>
          <p:cNvPr id="137" name="组合 9"/>
          <p:cNvGrpSpPr/>
          <p:nvPr/>
        </p:nvGrpSpPr>
        <p:grpSpPr>
          <a:xfrm>
            <a:off x="7195680" y="3370320"/>
            <a:ext cx="4017960" cy="3122640"/>
            <a:chOff x="7195680" y="3370320"/>
            <a:chExt cx="4017960" cy="3122640"/>
          </a:xfrm>
        </p:grpSpPr>
        <p:sp>
          <p:nvSpPr>
            <p:cNvPr id="138" name="直接连接符 10"/>
            <p:cNvSpPr/>
            <p:nvPr/>
          </p:nvSpPr>
          <p:spPr>
            <a:xfrm flipH="1">
              <a:off x="7195680" y="6242400"/>
              <a:ext cx="4017960" cy="0"/>
            </a:xfrm>
            <a:prstGeom prst="line">
              <a:avLst/>
            </a:prstGeom>
            <a:ln w="3816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直接连接符 11"/>
            <p:cNvSpPr/>
            <p:nvPr/>
          </p:nvSpPr>
          <p:spPr>
            <a:xfrm flipH="1" flipV="1">
              <a:off x="10861560" y="3370320"/>
              <a:ext cx="1440" cy="3122640"/>
            </a:xfrm>
            <a:prstGeom prst="line">
              <a:avLst/>
            </a:prstGeom>
            <a:ln w="9360">
              <a:solidFill>
                <a:srgbClr val="ec79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12"/>
            <p:cNvSpPr/>
            <p:nvPr/>
          </p:nvSpPr>
          <p:spPr>
            <a:xfrm rot="10800000">
              <a:off x="10546920" y="6212520"/>
              <a:ext cx="476280" cy="2314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2"/>
          <p:cNvSpPr/>
          <p:nvPr/>
        </p:nvSpPr>
        <p:spPr>
          <a:xfrm>
            <a:off x="954000" y="2403360"/>
            <a:ext cx="974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方认为，解决甲村的贫困现状要坚持以问题为导向，在解决问题的过程中赋权于民，倡导“参与式扶贫”理念，充分调动当地自身的脱贫积极性，进而解决深度贫困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2840" y="738360"/>
            <a:ext cx="480204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我方案例分析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文本框 2"/>
          <p:cNvSpPr/>
          <p:nvPr/>
        </p:nvSpPr>
        <p:spPr>
          <a:xfrm>
            <a:off x="1727280" y="2190600"/>
            <a:ext cx="96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组合 5" descr=""/>
          <p:cNvPicPr/>
          <p:nvPr/>
        </p:nvPicPr>
        <p:blipFill>
          <a:blip r:embed="rId1"/>
          <a:stretch/>
        </p:blipFill>
        <p:spPr>
          <a:xfrm>
            <a:off x="220680" y="1717560"/>
            <a:ext cx="4086360" cy="3122640"/>
          </a:xfrm>
          <a:prstGeom prst="rect">
            <a:avLst/>
          </a:prstGeom>
          <a:ln w="0">
            <a:noFill/>
          </a:ln>
        </p:spPr>
      </p:pic>
      <p:grpSp>
        <p:nvGrpSpPr>
          <p:cNvPr id="145" name="组合 9"/>
          <p:cNvGrpSpPr/>
          <p:nvPr/>
        </p:nvGrpSpPr>
        <p:grpSpPr>
          <a:xfrm>
            <a:off x="7195680" y="3370320"/>
            <a:ext cx="4017960" cy="3122640"/>
            <a:chOff x="7195680" y="3370320"/>
            <a:chExt cx="4017960" cy="3122640"/>
          </a:xfrm>
        </p:grpSpPr>
        <p:sp>
          <p:nvSpPr>
            <p:cNvPr id="146" name="直接连接符 10"/>
            <p:cNvSpPr/>
            <p:nvPr/>
          </p:nvSpPr>
          <p:spPr>
            <a:xfrm flipH="1">
              <a:off x="7195680" y="6242400"/>
              <a:ext cx="4017960" cy="0"/>
            </a:xfrm>
            <a:prstGeom prst="line">
              <a:avLst/>
            </a:prstGeom>
            <a:ln w="3816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直接连接符 11"/>
            <p:cNvSpPr/>
            <p:nvPr/>
          </p:nvSpPr>
          <p:spPr>
            <a:xfrm flipH="1" flipV="1">
              <a:off x="10861560" y="3370320"/>
              <a:ext cx="1440" cy="3122640"/>
            </a:xfrm>
            <a:prstGeom prst="line">
              <a:avLst/>
            </a:prstGeom>
            <a:ln w="9360">
              <a:solidFill>
                <a:srgbClr val="ec79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2"/>
            <p:cNvSpPr/>
            <p:nvPr/>
          </p:nvSpPr>
          <p:spPr>
            <a:xfrm rot="10800000">
              <a:off x="10546920" y="6212520"/>
              <a:ext cx="476280" cy="2314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文本框 2"/>
          <p:cNvSpPr/>
          <p:nvPr/>
        </p:nvSpPr>
        <p:spPr>
          <a:xfrm>
            <a:off x="2738520" y="3022560"/>
            <a:ext cx="5978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存环境差导致脱贫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 185"/>
          <p:cNvSpPr/>
          <p:nvPr/>
        </p:nvSpPr>
        <p:spPr>
          <a:xfrm>
            <a:off x="2068560" y="3349800"/>
            <a:ext cx="566640" cy="552240"/>
          </a:xfrm>
          <a:custGeom>
            <a:avLst/>
            <a:gdLst/>
            <a:ahLst/>
            <a:rect l="l" t="t" r="r" b="b"/>
            <a:pathLst>
              <a:path w="566420" h="553085">
                <a:moveTo>
                  <a:pt x="0" y="276542"/>
                </a:moveTo>
                <a:cubicBezTo>
                  <a:pt x="0" y="123812"/>
                  <a:pt x="126797" y="0"/>
                  <a:pt x="283210" y="0"/>
                </a:cubicBezTo>
                <a:cubicBezTo>
                  <a:pt x="439623" y="0"/>
                  <a:pt x="566420" y="123812"/>
                  <a:pt x="566420" y="276542"/>
                </a:cubicBezTo>
                <a:cubicBezTo>
                  <a:pt x="566420" y="429272"/>
                  <a:pt x="439623" y="553084"/>
                  <a:pt x="283210" y="553084"/>
                </a:cubicBezTo>
                <a:cubicBezTo>
                  <a:pt x="126797" y="553084"/>
                  <a:pt x="0" y="429272"/>
                  <a:pt x="0" y="276542"/>
                </a:cubicBezTo>
                <a:close/>
                <a:moveTo>
                  <a:pt x="138271" y="276542"/>
                </a:moveTo>
                <a:cubicBezTo>
                  <a:pt x="138271" y="352907"/>
                  <a:pt x="203162" y="414813"/>
                  <a:pt x="283209" y="414813"/>
                </a:cubicBezTo>
                <a:cubicBezTo>
                  <a:pt x="363256" y="414813"/>
                  <a:pt x="428147" y="352907"/>
                  <a:pt x="428147" y="276542"/>
                </a:cubicBezTo>
                <a:cubicBezTo>
                  <a:pt x="428147" y="200177"/>
                  <a:pt x="363256" y="138271"/>
                  <a:pt x="283209" y="138271"/>
                </a:cubicBezTo>
                <a:cubicBezTo>
                  <a:pt x="203162" y="138271"/>
                  <a:pt x="138271" y="200177"/>
                  <a:pt x="138271" y="276542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7"/>
          <p:cNvSpPr/>
          <p:nvPr/>
        </p:nvSpPr>
        <p:spPr>
          <a:xfrm>
            <a:off x="2174760" y="3252960"/>
            <a:ext cx="3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2840" y="738360"/>
            <a:ext cx="480204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我方案例分析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文本框 2"/>
          <p:cNvSpPr/>
          <p:nvPr/>
        </p:nvSpPr>
        <p:spPr>
          <a:xfrm>
            <a:off x="1727280" y="2190600"/>
            <a:ext cx="96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组合 5" descr=""/>
          <p:cNvPicPr/>
          <p:nvPr/>
        </p:nvPicPr>
        <p:blipFill>
          <a:blip r:embed="rId1"/>
          <a:stretch/>
        </p:blipFill>
        <p:spPr>
          <a:xfrm>
            <a:off x="220680" y="1717560"/>
            <a:ext cx="4086360" cy="3122640"/>
          </a:xfrm>
          <a:prstGeom prst="rect">
            <a:avLst/>
          </a:prstGeom>
          <a:ln w="0">
            <a:noFill/>
          </a:ln>
        </p:spPr>
      </p:pic>
      <p:grpSp>
        <p:nvGrpSpPr>
          <p:cNvPr id="155" name="组合 9"/>
          <p:cNvGrpSpPr/>
          <p:nvPr/>
        </p:nvGrpSpPr>
        <p:grpSpPr>
          <a:xfrm>
            <a:off x="7195680" y="3370320"/>
            <a:ext cx="4017960" cy="3122640"/>
            <a:chOff x="7195680" y="3370320"/>
            <a:chExt cx="4017960" cy="3122640"/>
          </a:xfrm>
        </p:grpSpPr>
        <p:sp>
          <p:nvSpPr>
            <p:cNvPr id="156" name="直接连接符 10"/>
            <p:cNvSpPr/>
            <p:nvPr/>
          </p:nvSpPr>
          <p:spPr>
            <a:xfrm flipH="1">
              <a:off x="7195680" y="6242400"/>
              <a:ext cx="4017960" cy="0"/>
            </a:xfrm>
            <a:prstGeom prst="line">
              <a:avLst/>
            </a:prstGeom>
            <a:ln w="3816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直接连接符 11"/>
            <p:cNvSpPr/>
            <p:nvPr/>
          </p:nvSpPr>
          <p:spPr>
            <a:xfrm flipH="1" flipV="1">
              <a:off x="10861560" y="3370320"/>
              <a:ext cx="1440" cy="3122640"/>
            </a:xfrm>
            <a:prstGeom prst="line">
              <a:avLst/>
            </a:prstGeom>
            <a:ln w="9360">
              <a:solidFill>
                <a:srgbClr val="ec79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12"/>
            <p:cNvSpPr/>
            <p:nvPr/>
          </p:nvSpPr>
          <p:spPr>
            <a:xfrm rot="10800000">
              <a:off x="10546920" y="6212520"/>
              <a:ext cx="476280" cy="2314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文本框 2"/>
          <p:cNvSpPr/>
          <p:nvPr/>
        </p:nvSpPr>
        <p:spPr>
          <a:xfrm>
            <a:off x="2738520" y="3022560"/>
            <a:ext cx="5978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贫困人口增收难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 185"/>
          <p:cNvSpPr/>
          <p:nvPr/>
        </p:nvSpPr>
        <p:spPr>
          <a:xfrm>
            <a:off x="2068560" y="3375000"/>
            <a:ext cx="566640" cy="552600"/>
          </a:xfrm>
          <a:custGeom>
            <a:avLst/>
            <a:gdLst/>
            <a:ahLst/>
            <a:rect l="l" t="t" r="r" b="b"/>
            <a:pathLst>
              <a:path w="566420" h="553085">
                <a:moveTo>
                  <a:pt x="0" y="276542"/>
                </a:moveTo>
                <a:cubicBezTo>
                  <a:pt x="0" y="123812"/>
                  <a:pt x="126797" y="0"/>
                  <a:pt x="283210" y="0"/>
                </a:cubicBezTo>
                <a:cubicBezTo>
                  <a:pt x="439623" y="0"/>
                  <a:pt x="566420" y="123812"/>
                  <a:pt x="566420" y="276542"/>
                </a:cubicBezTo>
                <a:cubicBezTo>
                  <a:pt x="566420" y="429272"/>
                  <a:pt x="439623" y="553084"/>
                  <a:pt x="283210" y="553084"/>
                </a:cubicBezTo>
                <a:cubicBezTo>
                  <a:pt x="126797" y="553084"/>
                  <a:pt x="0" y="429272"/>
                  <a:pt x="0" y="276542"/>
                </a:cubicBezTo>
                <a:close/>
                <a:moveTo>
                  <a:pt x="138271" y="276542"/>
                </a:moveTo>
                <a:cubicBezTo>
                  <a:pt x="138271" y="352907"/>
                  <a:pt x="203162" y="414813"/>
                  <a:pt x="283209" y="414813"/>
                </a:cubicBezTo>
                <a:cubicBezTo>
                  <a:pt x="363256" y="414813"/>
                  <a:pt x="428147" y="352907"/>
                  <a:pt x="428147" y="276542"/>
                </a:cubicBezTo>
                <a:cubicBezTo>
                  <a:pt x="428147" y="200177"/>
                  <a:pt x="363256" y="138271"/>
                  <a:pt x="283209" y="138271"/>
                </a:cubicBezTo>
                <a:cubicBezTo>
                  <a:pt x="203162" y="138271"/>
                  <a:pt x="138271" y="200177"/>
                  <a:pt x="138271" y="276542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7"/>
          <p:cNvSpPr/>
          <p:nvPr/>
        </p:nvSpPr>
        <p:spPr>
          <a:xfrm>
            <a:off x="2174760" y="3252960"/>
            <a:ext cx="3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2840" y="738360"/>
            <a:ext cx="480204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我方案例分析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文本框 2"/>
          <p:cNvSpPr/>
          <p:nvPr/>
        </p:nvSpPr>
        <p:spPr>
          <a:xfrm>
            <a:off x="1727280" y="2190600"/>
            <a:ext cx="96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组合 5" descr=""/>
          <p:cNvPicPr/>
          <p:nvPr/>
        </p:nvPicPr>
        <p:blipFill>
          <a:blip r:embed="rId1"/>
          <a:stretch/>
        </p:blipFill>
        <p:spPr>
          <a:xfrm>
            <a:off x="220680" y="1717560"/>
            <a:ext cx="4086360" cy="3122640"/>
          </a:xfrm>
          <a:prstGeom prst="rect">
            <a:avLst/>
          </a:prstGeom>
          <a:ln w="0">
            <a:noFill/>
          </a:ln>
        </p:spPr>
      </p:pic>
      <p:grpSp>
        <p:nvGrpSpPr>
          <p:cNvPr id="165" name="组合 9"/>
          <p:cNvGrpSpPr/>
          <p:nvPr/>
        </p:nvGrpSpPr>
        <p:grpSpPr>
          <a:xfrm>
            <a:off x="7195680" y="3370320"/>
            <a:ext cx="4017960" cy="3122640"/>
            <a:chOff x="7195680" y="3370320"/>
            <a:chExt cx="4017960" cy="3122640"/>
          </a:xfrm>
        </p:grpSpPr>
        <p:sp>
          <p:nvSpPr>
            <p:cNvPr id="166" name="直接连接符 10"/>
            <p:cNvSpPr/>
            <p:nvPr/>
          </p:nvSpPr>
          <p:spPr>
            <a:xfrm flipH="1">
              <a:off x="7195680" y="6242400"/>
              <a:ext cx="4017960" cy="0"/>
            </a:xfrm>
            <a:prstGeom prst="line">
              <a:avLst/>
            </a:prstGeom>
            <a:ln w="38160">
              <a:solidFill>
                <a:srgbClr val="ed7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直接连接符 11"/>
            <p:cNvSpPr/>
            <p:nvPr/>
          </p:nvSpPr>
          <p:spPr>
            <a:xfrm flipH="1" flipV="1">
              <a:off x="10861560" y="3370320"/>
              <a:ext cx="1440" cy="3122640"/>
            </a:xfrm>
            <a:prstGeom prst="line">
              <a:avLst/>
            </a:prstGeom>
            <a:ln w="9360">
              <a:solidFill>
                <a:srgbClr val="ec792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2"/>
            <p:cNvSpPr/>
            <p:nvPr/>
          </p:nvSpPr>
          <p:spPr>
            <a:xfrm rot="10800000">
              <a:off x="10546920" y="6212520"/>
              <a:ext cx="476280" cy="2314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2"/>
          <p:cNvSpPr/>
          <p:nvPr/>
        </p:nvSpPr>
        <p:spPr>
          <a:xfrm>
            <a:off x="2738520" y="3022560"/>
            <a:ext cx="5978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陈规陋习阻碍脱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 185"/>
          <p:cNvSpPr/>
          <p:nvPr/>
        </p:nvSpPr>
        <p:spPr>
          <a:xfrm>
            <a:off x="2068560" y="3349800"/>
            <a:ext cx="566640" cy="552240"/>
          </a:xfrm>
          <a:custGeom>
            <a:avLst/>
            <a:gdLst/>
            <a:ahLst/>
            <a:rect l="l" t="t" r="r" b="b"/>
            <a:pathLst>
              <a:path w="566420" h="553085">
                <a:moveTo>
                  <a:pt x="0" y="276542"/>
                </a:moveTo>
                <a:cubicBezTo>
                  <a:pt x="0" y="123812"/>
                  <a:pt x="126797" y="0"/>
                  <a:pt x="283210" y="0"/>
                </a:cubicBezTo>
                <a:cubicBezTo>
                  <a:pt x="439623" y="0"/>
                  <a:pt x="566420" y="123812"/>
                  <a:pt x="566420" y="276542"/>
                </a:cubicBezTo>
                <a:cubicBezTo>
                  <a:pt x="566420" y="429272"/>
                  <a:pt x="439623" y="553084"/>
                  <a:pt x="283210" y="553084"/>
                </a:cubicBezTo>
                <a:cubicBezTo>
                  <a:pt x="126797" y="553084"/>
                  <a:pt x="0" y="429272"/>
                  <a:pt x="0" y="276542"/>
                </a:cubicBezTo>
                <a:close/>
                <a:moveTo>
                  <a:pt x="138271" y="276542"/>
                </a:moveTo>
                <a:cubicBezTo>
                  <a:pt x="138271" y="352907"/>
                  <a:pt x="203162" y="414813"/>
                  <a:pt x="283209" y="414813"/>
                </a:cubicBezTo>
                <a:cubicBezTo>
                  <a:pt x="363256" y="414813"/>
                  <a:pt x="428147" y="352907"/>
                  <a:pt x="428147" y="276542"/>
                </a:cubicBezTo>
                <a:cubicBezTo>
                  <a:pt x="428147" y="200177"/>
                  <a:pt x="363256" y="138271"/>
                  <a:pt x="283209" y="138271"/>
                </a:cubicBezTo>
                <a:cubicBezTo>
                  <a:pt x="203162" y="138271"/>
                  <a:pt x="138271" y="200177"/>
                  <a:pt x="138271" y="276542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7"/>
          <p:cNvSpPr/>
          <p:nvPr/>
        </p:nvSpPr>
        <p:spPr>
          <a:xfrm>
            <a:off x="2174760" y="3252960"/>
            <a:ext cx="3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6:57:12Z</dcterms:created>
  <dc:creator>吴可(1009034)</dc:creator>
  <dc:description/>
  <dc:language>en-US</dc:language>
  <cp:lastModifiedBy>somnusok✨</cp:lastModifiedBy>
  <dcterms:modified xsi:type="dcterms:W3CDTF">2018-04-26T15:18:52Z</dcterms:modified>
  <cp:revision>23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</Properties>
</file>